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8624-83EF-4F87-A1E3-8B30602AF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77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DFE3-3716-441B-AD85-FF43EEC9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776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776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0220-D363-44C0-B6FE-9CA2CDE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776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776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776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732C-83A7-4B65-9FCB-5A702BE0B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A202-076E-4B8D-A3BE-9B52E8F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9D60-7D51-4620-BEBA-31104559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2017-85C5-46CD-B331-B393ADB7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0BA7-8A97-4840-BA5C-6BAAF7A4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0720" y="228600"/>
            <a:ext cx="67820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B7CF-FCF0-4D59-B6DE-96C47C26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776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56EA-1AC1-42B0-97B8-3A6334E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776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358C-86DA-452D-91C1-93052217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196920"/>
            <a:ext cx="6782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77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A896-5533-41D0-95D4-758E0167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971800" y="6324480"/>
            <a:ext cx="2895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dff"/>
                </a:solidFill>
                <a:latin typeface="Times New Roman"/>
                <a:ea typeface="Times New Roman"/>
              </a:rPr>
              <a:t>&lt;footer&gt;</a:t>
            </a:r>
            <a:r>
              <a:rPr b="0" lang="nl-NL" sz="1400" spc="-1" strike="noStrike">
                <a:solidFill>
                  <a:srgbClr val="002dff"/>
                </a:solidFill>
                <a:latin typeface="Times New Roman"/>
                <a:ea typeface="Times New Roman"/>
              </a:rPr>
              <a:t>© AS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6440" y="68256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2160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d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83E1-3B44-485F-86C6-0870A562F11C}" type="datetime3">
              <a:rPr b="0" lang="en-US" sz="1400" spc="-1" strike="noStrike">
                <a:solidFill>
                  <a:srgbClr val="002dff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d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E11D-9235-47B2-A13B-F6842A36424E}" type="slidenum">
              <a:rPr b="0" lang="en-US" sz="1400" spc="-1" strike="noStrike">
                <a:solidFill>
                  <a:srgbClr val="002d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4920" y="198360"/>
            <a:ext cx="1676160" cy="54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and S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FAR20, Epis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Coordinat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5840" y="62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EA7F-353D-409A-A1D8-51BA72418F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: LOFAR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0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0954-1726-4D4C-A681-5C6000801F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: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497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72C2-E674-4F35-9F95-B0BA0A9A26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: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55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4575-980C-4689-9F0A-46465BC1D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: Cabi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749160"/>
            <a:ext cx="6858000" cy="549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3B2E-FC9A-4EC5-BA13-0FECD38086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0" y="2286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LOFAR20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ff"/>
                </a:solidFill>
                <a:latin typeface="Arial"/>
              </a:rPr>
              <a:t>Finish the left-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LBA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ITRF coord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ff"/>
                </a:solidFill>
                <a:latin typeface="Arial"/>
              </a:rPr>
              <a:t>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splitter control (Station software + Navigat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able-length and -loss in Beam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dff"/>
                </a:solidFill>
                <a:latin typeface="Arial"/>
              </a:rPr>
              <a:t>New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last past of TBB pipeline (TBB writers on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Software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Hardware Monitor of CEP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screens for Navigat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process-chains including C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 Europe- and Netherland-vie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FF21-7E79-4FAC-ACD8-69E46FE09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0" y="304920"/>
            <a:ext cx="6324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for step 2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entral storage of station coordinates in E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nversion tool to IT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vert software to ITRF (Beam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inish station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emperature controller for station (hardware +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Do performance measurements for PVSS and contro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tend RSPDriver for roll-out unit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ncorporate VHECR trigger code in station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hance controllers to use state-info in PVSS (e.g. from SH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mprove Navigator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D3CA-3990-41EE-97B8-DB24B8C0B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304920"/>
            <a:ext cx="6324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for step 2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entral storage of station coordinates in E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nversion tool to IT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nvert software to ITRF (Beam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inish station 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emperature controller for station (hardware +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o performance measurements for PVSS and control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xtend RSPDriver for roll-out unit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corporate VHECR trigger code in station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nhance controllers to use state-info in PVSS (e.g. from SH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mprove Navigator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CA68-92A7-4FF1-B496-8496821656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0" y="228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 Calibration L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838080"/>
            <a:ext cx="7696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 co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 of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s fast as we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ed out there is a MatLab C compiler that has promising sp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matlab code to C-lib (not license b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our code to match array/matrix format of 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fan has figured out how to us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results look good: It’s as fast as MatLab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458A-E966-418B-B451-7FD94391B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centrally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64400" cy="54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07B6-6FDA-4605-80BB-3BB766B6C6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0" y="228600"/>
            <a:ext cx="25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979560"/>
            <a:ext cx="6486480" cy="51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FDCD-5A85-4C9C-AC5D-0C0EFCDBC4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228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screen(s)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782040" cy="548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27A9-A30F-42A2-AA10-E4E7ECCC8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S Hardware Tree is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2232000" cy="361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2241720" cy="38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C973-AE63-4F85-AE0C-4AD832761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0" y="228600"/>
            <a:ext cx="25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Navig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ife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3E2D-36E5-4B7F-9114-A003D804C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26:54Z</dcterms:created>
  <dc:creator>Ruud</dc:creator>
  <dc:description/>
  <dc:language>en-US</dc:language>
  <cp:lastModifiedBy>Ruud Overeem</cp:lastModifiedBy>
  <cp:lastPrinted>2008-04-07T12:55:22Z</cp:lastPrinted>
  <dcterms:modified xsi:type="dcterms:W3CDTF">2008-11-10T15:16:32Z</dcterms:modified>
  <cp:revision>29</cp:revision>
  <dc:subject/>
  <dc:title>PowerPoint Presentation</dc:title>
</cp:coreProperties>
</file>